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8416-0232-4736-B0A3-6FBF0C076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87CA-FC96-4CA2-A093-17F0D2A2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D4B1-5343-43B2-B88A-3EF5CA4AB59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POBLACION BENEFICIADA -  EQUIPOS / ESTUDIA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053-740D-4CB9-AF6B-EE8AFD59A01F}" type="slidenum">
              <a:rPr b="1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C8B7-9877-4553-8428-67B4A2107348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82B7-B05D-4F26-A85C-054B50A94FD3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5B2E-9DDE-4792-928B-634EF34A3C0C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37FC-329C-4E8D-921F-9255317DF9D3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C27A-2CA7-46AF-AB31-319C3D82B56D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4580-D709-4F44-B400-F4345A7E05C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D09F-9EA9-47B9-960A-DB81BC23B425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F1A5-9618-4C49-BAA6-67559598A525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ALCANCE CURR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8A00-1205-4E9C-AC2C-3258E0042748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2B5C-5A53-4560-AF10-1D18ACBC58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cepci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ó</a:t>
            </a: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 general del t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1FB4-1DB1-4545-BA00-2CBA73336D7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60D-CB27-4A4F-9B69-4A45421C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AEB-915C-48E9-B6AB-67F36EDF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093-493E-4DF2-BD24-1A626A43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B5B-8E2B-46FB-BD5B-C414A718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DC2-20B0-44C3-B5ED-4693E5CB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79F-A3DA-4DBA-9DD7-6707EC59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EAC-849F-4405-864A-9D47C2FD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A62-1CE3-40DA-A73C-EED3B0C2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98A-2466-4CB6-B6A4-EDD991D9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E16-65BC-4743-B562-5A202EE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99D-E02C-437E-9CBD-D3150311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B757-9DF9-40B7-AC02-3B2E8386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7D51-A90D-4EE0-AEEB-91DC64E8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EA3D-D542-4A63-8F78-DB252B4D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8010-FB31-4FC5-BA9F-CD979A4F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6729-A4B2-4245-9F37-95CD0D04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5E80-D7F1-4E4D-8FF6-9B9B4B48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375-EF20-4AC5-9982-EF06D24C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F394-A838-4E05-9004-D468ABDD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94DB-80D8-4895-BFEF-150CEC8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1A74-2DEF-4F30-B30A-D01F7208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4EA9-7E4D-4148-813B-70A62486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814E-CA94-47BF-BF86-D5887651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D6D-2782-4F4C-B65E-CB2CFA0B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2909-21C7-4B84-ACDE-21234CA3C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106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85800" y="2781360"/>
            <a:ext cx="77724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106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85800" y="2781360"/>
            <a:ext cx="77724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106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781360"/>
            <a:ext cx="77724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106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85800" y="2781360"/>
            <a:ext cx="77724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6 Imagen" descr="portad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6 Imagen" descr="interior.jpg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A61A-2322-4876-9978-6BA820199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1 CuadroTexto"/>
          <p:cNvSpPr/>
          <p:nvPr/>
        </p:nvSpPr>
        <p:spPr>
          <a:xfrm>
            <a:off x="250920" y="2205000"/>
            <a:ext cx="4716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etermina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ertinencia de implement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r perspectivas, oportunidades, aspectos crítico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oner de diversas alternativas de uso pedagógico de las TIC para la comunidad educati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entrega"/>
          <p:cNvPicPr/>
          <p:nvPr/>
        </p:nvPicPr>
        <p:blipFill>
          <a:blip r:embed="rId4"/>
          <a:stretch/>
        </p:blipFill>
        <p:spPr>
          <a:xfrm>
            <a:off x="4376880" y="1968480"/>
            <a:ext cx="4578120" cy="3183120"/>
          </a:xfrm>
          <a:prstGeom prst="rect">
            <a:avLst/>
          </a:prstGeom>
          <a:ln w="0">
            <a:noFill/>
          </a:ln>
        </p:spPr>
      </p:pic>
      <p:sp>
        <p:nvSpPr>
          <p:cNvPr id="348" name="1 CuadroTexto"/>
          <p:cNvSpPr/>
          <p:nvPr/>
        </p:nvSpPr>
        <p:spPr>
          <a:xfrm>
            <a:off x="0" y="119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Gestión de modelos de innovación educativa con uso de 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AutoShape 4"/>
          <p:cNvGrpSpPr/>
          <p:nvPr/>
        </p:nvGrpSpPr>
        <p:grpSpPr>
          <a:xfrm>
            <a:off x="1054080" y="2457360"/>
            <a:ext cx="7315200" cy="1346400"/>
            <a:chOff x="1054080" y="2457360"/>
            <a:chExt cx="7315200" cy="1346400"/>
          </a:xfrm>
        </p:grpSpPr>
        <p:pic>
          <p:nvPicPr>
            <p:cNvPr id="350" name="AutoShape 4" descr=""/>
            <p:cNvPicPr/>
            <p:nvPr/>
          </p:nvPicPr>
          <p:blipFill>
            <a:blip r:embed="rId1"/>
            <a:stretch/>
          </p:blipFill>
          <p:spPr>
            <a:xfrm>
              <a:off x="1054080" y="2457360"/>
              <a:ext cx="73152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174680" y="2552760"/>
              <a:ext cx="70819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guimiento a experiencia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no a uno en Colombi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7 Grupo"/>
          <p:cNvGrpSpPr/>
          <p:nvPr/>
        </p:nvGrpSpPr>
        <p:grpSpPr>
          <a:xfrm>
            <a:off x="0" y="5143680"/>
            <a:ext cx="9144000" cy="1715760"/>
            <a:chOff x="0" y="5143680"/>
            <a:chExt cx="9144000" cy="1715760"/>
          </a:xfrm>
        </p:grpSpPr>
        <p:pic>
          <p:nvPicPr>
            <p:cNvPr id="35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5143680"/>
              <a:ext cx="32148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8" descr="C:\Documents and Settings\Camilo\Mis documentos\Fotos\Fotos OLPC\Cazucá\SDC10140.JPG"/>
            <p:cNvPicPr/>
            <p:nvPr/>
          </p:nvPicPr>
          <p:blipFill>
            <a:blip r:embed="rId3"/>
            <a:stretch/>
          </p:blipFill>
          <p:spPr>
            <a:xfrm>
              <a:off x="6168960" y="5176800"/>
              <a:ext cx="2975040" cy="16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7 Imagen" descr="VISITAS NORMALES 003_1.jpg"/>
            <p:cNvPicPr/>
            <p:nvPr/>
          </p:nvPicPr>
          <p:blipFill>
            <a:blip r:embed="rId4"/>
            <a:srcRect l="24417" t="0" r="0" b="0"/>
            <a:stretch/>
          </p:blipFill>
          <p:spPr>
            <a:xfrm>
              <a:off x="3250440" y="5168520"/>
              <a:ext cx="2880360" cy="169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ext Box 39" descr=""/>
          <p:cNvPicPr/>
          <p:nvPr/>
        </p:nvPicPr>
        <p:blipFill>
          <a:blip r:embed="rId1"/>
          <a:stretch/>
        </p:blipFill>
        <p:spPr>
          <a:xfrm>
            <a:off x="2798640" y="1432080"/>
            <a:ext cx="3426120" cy="834840"/>
          </a:xfrm>
          <a:prstGeom prst="rect">
            <a:avLst/>
          </a:prstGeom>
          <a:ln w="0">
            <a:noFill/>
          </a:ln>
        </p:spPr>
      </p:pic>
      <p:sp>
        <p:nvSpPr>
          <p:cNvPr id="357" name="Line 41"/>
          <p:cNvSpPr/>
          <p:nvPr/>
        </p:nvSpPr>
        <p:spPr>
          <a:xfrm flipH="1">
            <a:off x="2785680" y="2214720"/>
            <a:ext cx="171468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2"/>
          <p:cNvSpPr/>
          <p:nvPr/>
        </p:nvSpPr>
        <p:spPr>
          <a:xfrm>
            <a:off x="4500720" y="2214720"/>
            <a:ext cx="157140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3"/>
          <p:cNvSpPr/>
          <p:nvPr/>
        </p:nvSpPr>
        <p:spPr>
          <a:xfrm>
            <a:off x="1476360" y="3000240"/>
            <a:ext cx="2301840" cy="825480"/>
          </a:xfrm>
          <a:prstGeom prst="rect">
            <a:avLst/>
          </a:prstGeom>
          <a:gradFill rotWithShape="0">
            <a:gsLst>
              <a:gs pos="0">
                <a:srgbClr val="e2e0ec"/>
              </a:gs>
              <a:gs pos="100000">
                <a:srgbClr val="9d98c0"/>
              </a:gs>
            </a:gsLst>
            <a:lin ang="5400000"/>
          </a:gradFill>
          <a:ln w="10080">
            <a:solidFill>
              <a:srgbClr val="8d89a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  <a:ea typeface="Arial"/>
              </a:rPr>
              <a:t>Piloto en ENS - 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4"/>
          <p:cNvSpPr/>
          <p:nvPr/>
        </p:nvSpPr>
        <p:spPr>
          <a:xfrm>
            <a:off x="5003640" y="3000240"/>
            <a:ext cx="2305080" cy="825480"/>
          </a:xfrm>
          <a:prstGeom prst="rect">
            <a:avLst/>
          </a:prstGeom>
          <a:gradFill rotWithShape="0">
            <a:gsLst>
              <a:gs pos="0">
                <a:srgbClr val="e2e0ec"/>
              </a:gs>
              <a:gs pos="100000">
                <a:srgbClr val="9d98c0"/>
              </a:gs>
            </a:gsLst>
            <a:lin ang="5400000"/>
          </a:gradFill>
          <a:ln w="10080">
            <a:solidFill>
              <a:srgbClr val="8d89a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  <a:ea typeface="Arial"/>
              </a:rPr>
              <a:t>Seguimiento a otras Iniciativ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5"/>
          <p:cNvSpPr/>
          <p:nvPr/>
        </p:nvSpPr>
        <p:spPr>
          <a:xfrm>
            <a:off x="428760" y="4149720"/>
            <a:ext cx="3889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Acompañamiento universidades lo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6"/>
          <p:cNvSpPr/>
          <p:nvPr/>
        </p:nvSpPr>
        <p:spPr>
          <a:xfrm>
            <a:off x="2714760" y="37926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7"/>
          <p:cNvSpPr/>
          <p:nvPr/>
        </p:nvSpPr>
        <p:spPr>
          <a:xfrm>
            <a:off x="4786200" y="4165560"/>
            <a:ext cx="396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Acompañamiento fundaciones, 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9"/>
          <p:cNvSpPr/>
          <p:nvPr/>
        </p:nvSpPr>
        <p:spPr>
          <a:xfrm>
            <a:off x="324000" y="4724280"/>
            <a:ext cx="8496000" cy="1936080"/>
          </a:xfrm>
          <a:prstGeom prst="rect">
            <a:avLst/>
          </a:prstGeom>
          <a:gradFill rotWithShape="0">
            <a:gsLst>
              <a:gs pos="0">
                <a:srgbClr val="d8ebf3"/>
              </a:gs>
              <a:gs pos="100000">
                <a:srgbClr val="78bfd8"/>
              </a:gs>
            </a:gsLst>
            <a:lin ang="5400000"/>
          </a:gradFill>
          <a:ln w="10080">
            <a:solidFill>
              <a:srgbClr val="6ea0b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  <a:ea typeface="Arial"/>
              </a:rPr>
              <a:t>Característica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  <a:ea typeface="Arial"/>
              </a:rPr>
              <a:t>El modelo considera aspectos de infraestructura, formación, acompañami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  <a:ea typeface="Arial"/>
              </a:rPr>
              <a:t>Incluye los componentes de la gestión escolar: académico, directivo, administrativo y comunitari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6"/>
          <p:cNvSpPr/>
          <p:nvPr/>
        </p:nvSpPr>
        <p:spPr>
          <a:xfrm>
            <a:off x="6156360" y="378936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4 CuadroTexto"/>
          <p:cNvSpPr/>
          <p:nvPr/>
        </p:nvSpPr>
        <p:spPr>
          <a:xfrm>
            <a:off x="7405560" y="3009960"/>
            <a:ext cx="115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Secretarías de Educación,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Entidades privad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3 Abrir llave"/>
          <p:cNvSpPr/>
          <p:nvPr/>
        </p:nvSpPr>
        <p:spPr>
          <a:xfrm>
            <a:off x="7380360" y="2997360"/>
            <a:ext cx="144360" cy="718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718920"/>
              <a:gd name="textAreaBottom" fmla="*/ 71532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1"/>
                  <a:pt x="10800" y="362"/>
                </a:cubicBezTo>
                <a:lnTo>
                  <a:pt x="10800" y="10438"/>
                </a:lnTo>
                <a:cubicBezTo>
                  <a:pt x="10800" y="10619"/>
                  <a:pt x="5400" y="10800"/>
                  <a:pt x="0" y="10800"/>
                </a:cubicBezTo>
                <a:cubicBezTo>
                  <a:pt x="5400" y="10800"/>
                  <a:pt x="10800" y="10981"/>
                  <a:pt x="10800" y="11162"/>
                </a:cubicBezTo>
                <a:lnTo>
                  <a:pt x="10800" y="21238"/>
                </a:lnTo>
                <a:cubicBezTo>
                  <a:pt x="10800" y="21419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7e8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201600" y="1268280"/>
          <a:ext cx="8740800" cy="5027760"/>
        </p:xfrm>
        <a:graphic>
          <a:graphicData uri="http://schemas.openxmlformats.org/drawingml/2006/table">
            <a:tbl>
              <a:tblPr/>
              <a:tblGrid>
                <a:gridCol w="1473120"/>
                <a:gridCol w="2239920"/>
                <a:gridCol w="649440"/>
                <a:gridCol w="1349280"/>
                <a:gridCol w="1557360"/>
                <a:gridCol w="147168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pto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nicipi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. 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. Estudiant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o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po Tecnologí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04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oqui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güí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escolar, 1º - 5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ellí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escolar, 1º - 5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, 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06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lántic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banagrand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ranquill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y 3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íva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Juan de Nepomucen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da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osuci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- 4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sa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u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233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ndinamarc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ach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- 4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ta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-  5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í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-  5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gara - La Esperanza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º -  6º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có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ibdó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º - 4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gdalen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ta Mart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mat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19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tilla La Nuev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º - 6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átiles reacondicionado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caren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º - 5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5 Rectángulo"/>
          <p:cNvSpPr/>
          <p:nvPr/>
        </p:nvSpPr>
        <p:spPr>
          <a:xfrm>
            <a:off x="390600" y="124920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cciones adelantad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5 Rectángulo"/>
          <p:cNvSpPr/>
          <p:nvPr/>
        </p:nvSpPr>
        <p:spPr>
          <a:xfrm>
            <a:off x="395280" y="2133720"/>
            <a:ext cx="396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loto en 4 Escuelas Normales Superi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alleres 2009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Hacia una política de incorporación de tecnologías móviles en la educació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d virtual de acompañami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ceso de seguimiento y monitoreo a experiencias uno a uno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rcRect l="26758" t="7180" r="28418" b="11609"/>
          <a:stretch/>
        </p:blipFill>
        <p:spPr>
          <a:xfrm>
            <a:off x="4535640" y="1844640"/>
            <a:ext cx="46083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5 Rectángulo"/>
          <p:cNvSpPr/>
          <p:nvPr/>
        </p:nvSpPr>
        <p:spPr>
          <a:xfrm>
            <a:off x="324000" y="124920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guimiento y monitoreo a experiencias 2010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4 CuadroTexto"/>
          <p:cNvSpPr/>
          <p:nvPr/>
        </p:nvSpPr>
        <p:spPr>
          <a:xfrm>
            <a:off x="250920" y="2060640"/>
            <a:ext cx="648180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l ejercicio de seguimiento</a:t>
            </a:r>
            <a:r>
              <a:rPr b="0" i="1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 llevó a cabo en 17 instituciones determinadas por el MEN, distribuidas en los Departamentos de Antioquia, Atlántico, Caldas, Chocó, Cundinamarca, y Met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ropósito: Identificar en cada institución las buenas prácticas adelantadas en la implementación del modelo, por cada una de las cuatro áreas de gestión (académica, directiva, administrativa y de la comunida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a documentación de las diferentes experiencias se llevó a cabo a través de dos tipos de aproximación: contacto virtual con todas las instituciones, y visitas y entrevistas presenciales (rector, docentes y estudiantes involucrados directamente en el proyecto, y padres de familia) en 11 institucion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5 Imagen" descr="DSCN9208.JPG"/>
          <p:cNvPicPr/>
          <p:nvPr/>
        </p:nvPicPr>
        <p:blipFill>
          <a:blip r:embed="rId1"/>
          <a:stretch/>
        </p:blipFill>
        <p:spPr>
          <a:xfrm>
            <a:off x="6797520" y="2700360"/>
            <a:ext cx="21812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rcRect l="591" t="16982" r="5209" b="15838"/>
          <a:stretch/>
        </p:blipFill>
        <p:spPr>
          <a:xfrm>
            <a:off x="179280" y="1413000"/>
            <a:ext cx="878544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2 Gráfico" descr=""/>
          <p:cNvPicPr/>
          <p:nvPr/>
        </p:nvPicPr>
        <p:blipFill>
          <a:blip r:embed="rId1"/>
          <a:stretch/>
        </p:blipFill>
        <p:spPr>
          <a:xfrm>
            <a:off x="171360" y="1768320"/>
            <a:ext cx="8655120" cy="4834080"/>
          </a:xfrm>
          <a:prstGeom prst="rect">
            <a:avLst/>
          </a:prstGeom>
          <a:ln w="0">
            <a:noFill/>
          </a:ln>
        </p:spPr>
      </p:pic>
      <p:sp>
        <p:nvSpPr>
          <p:cNvPr id="377" name="2 CuadroTexto"/>
          <p:cNvSpPr/>
          <p:nvPr/>
        </p:nvSpPr>
        <p:spPr>
          <a:xfrm>
            <a:off x="500040" y="111600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바탕"/>
              </a:rPr>
              <a:t>Tiempo de implementació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3 CuadroTexto"/>
          <p:cNvSpPr/>
          <p:nvPr/>
        </p:nvSpPr>
        <p:spPr>
          <a:xfrm>
            <a:off x="971640" y="650556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바탕"/>
              </a:rPr>
              <a:t>Promedio duración = 21 meses</a:t>
            </a:r>
            <a:r>
              <a:rPr b="1" lang="es-ES" sz="1400" spc="-1" strike="noStrike">
                <a:solidFill>
                  <a:srgbClr val="b10f49"/>
                </a:solidFill>
                <a:latin typeface="Arial"/>
                <a:ea typeface="바탕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1 Gráfico" descr=""/>
          <p:cNvPicPr/>
          <p:nvPr/>
        </p:nvPicPr>
        <p:blipFill>
          <a:blip r:embed="rId1"/>
          <a:stretch/>
        </p:blipFill>
        <p:spPr>
          <a:xfrm>
            <a:off x="244440" y="1407960"/>
            <a:ext cx="858204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2 CuadroTexto"/>
          <p:cNvSpPr/>
          <p:nvPr/>
        </p:nvSpPr>
        <p:spPr>
          <a:xfrm>
            <a:off x="500040" y="965160"/>
            <a:ext cx="8319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바탕"/>
              </a:rPr>
              <a:t>Beneficiarios directos </a:t>
            </a:r>
            <a:r>
              <a:rPr b="1" lang="es-ES" sz="2800" spc="-1" strike="noStrike">
                <a:solidFill>
                  <a:srgbClr val="660033"/>
                </a:solidFill>
                <a:latin typeface="Arial"/>
                <a:ea typeface="바탕"/>
              </a:rPr>
              <a:t>– </a:t>
            </a:r>
            <a:r>
              <a:rPr b="1" lang="es-ES" sz="2400" spc="-1" strike="noStrike">
                <a:solidFill>
                  <a:srgbClr val="333300"/>
                </a:solidFill>
                <a:latin typeface="Arial"/>
                <a:ea typeface="바탕"/>
              </a:rPr>
              <a:t>estudiantes / equip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7 Gráfico" descr=""/>
          <p:cNvPicPr/>
          <p:nvPr/>
        </p:nvPicPr>
        <p:blipFill>
          <a:blip r:embed="rId1"/>
          <a:stretch/>
        </p:blipFill>
        <p:spPr>
          <a:xfrm>
            <a:off x="920880" y="1706400"/>
            <a:ext cx="7327800" cy="4035600"/>
          </a:xfrm>
          <a:prstGeom prst="rect">
            <a:avLst/>
          </a:prstGeom>
          <a:ln w="0">
            <a:noFill/>
          </a:ln>
        </p:spPr>
      </p:pic>
      <p:sp>
        <p:nvSpPr>
          <p:cNvPr id="382" name="5 CuadroTexto"/>
          <p:cNvSpPr/>
          <p:nvPr/>
        </p:nvSpPr>
        <p:spPr>
          <a:xfrm>
            <a:off x="1109520" y="5786280"/>
            <a:ext cx="83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10f49"/>
                </a:solidFill>
                <a:latin typeface="Century Gothic"/>
                <a:ea typeface="바탕"/>
              </a:rPr>
              <a:t>BENEFICIARIOS DIRECTOS </a:t>
            </a:r>
            <a:r>
              <a:rPr b="1" lang="es-ES" sz="1600" spc="-1" strike="noStrike">
                <a:solidFill>
                  <a:srgbClr val="660033"/>
                </a:solidFill>
                <a:latin typeface="Century Gothic"/>
                <a:ea typeface="바탕"/>
              </a:rPr>
              <a:t>– </a:t>
            </a:r>
            <a:r>
              <a:rPr b="1" lang="es-ES" sz="1400" spc="-1" strike="noStrike">
                <a:solidFill>
                  <a:srgbClr val="333300"/>
                </a:solidFill>
                <a:latin typeface="Century Gothic"/>
                <a:ea typeface="바탕"/>
              </a:rPr>
              <a:t>85 DOCEN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7 Conector recto"/>
          <p:cNvSpPr/>
          <p:nvPr/>
        </p:nvSpPr>
        <p:spPr>
          <a:xfrm>
            <a:off x="357120" y="5286240"/>
            <a:ext cx="66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285840" y="4521240"/>
            <a:ext cx="618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Arial"/>
              </a:rPr>
              <a:t>Oficina de Innovación Educativa con Uso de Nuevas Tecnologí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85840" y="5425920"/>
            <a:ext cx="850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 MT"/>
                <a:ea typeface="Arial Unicode MS"/>
              </a:rPr>
              <a:t>Proyectos Uno a Uno: Aprendizajes y Reflex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 MT"/>
                <a:ea typeface="Arial Unicode MS"/>
              </a:rPr>
              <a:t>Mayo 3 y 4 de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6 CuadroTexto"/>
          <p:cNvSpPr/>
          <p:nvPr/>
        </p:nvSpPr>
        <p:spPr>
          <a:xfrm>
            <a:off x="250920" y="1407960"/>
            <a:ext cx="8569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바탕"/>
              </a:rPr>
              <a:t>Los estudiantes llevan el computador a la ca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1 Gráfico" descr=""/>
          <p:cNvPicPr/>
          <p:nvPr/>
        </p:nvPicPr>
        <p:blipFill>
          <a:blip r:embed="rId1"/>
          <a:stretch/>
        </p:blipFill>
        <p:spPr>
          <a:xfrm>
            <a:off x="244440" y="2127240"/>
            <a:ext cx="84358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2 CuadroTexto"/>
          <p:cNvSpPr/>
          <p:nvPr/>
        </p:nvSpPr>
        <p:spPr>
          <a:xfrm>
            <a:off x="250920" y="1254240"/>
            <a:ext cx="8569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바탕"/>
              </a:rPr>
              <a:t>Articulación con el PE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2 Gráfico" descr=""/>
          <p:cNvPicPr/>
          <p:nvPr/>
        </p:nvPicPr>
        <p:blipFill>
          <a:blip r:embed="rId1"/>
          <a:stretch/>
        </p:blipFill>
        <p:spPr>
          <a:xfrm>
            <a:off x="-6480" y="2127240"/>
            <a:ext cx="87598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4 Tabla" descr=""/>
          <p:cNvPicPr/>
          <p:nvPr/>
        </p:nvPicPr>
        <p:blipFill>
          <a:blip r:embed="rId1"/>
          <a:stretch/>
        </p:blipFill>
        <p:spPr>
          <a:xfrm>
            <a:off x="517680" y="1195560"/>
            <a:ext cx="824832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2 CuadroTexto"/>
          <p:cNvSpPr/>
          <p:nvPr/>
        </p:nvSpPr>
        <p:spPr>
          <a:xfrm>
            <a:off x="250920" y="1052640"/>
            <a:ext cx="8569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바탕"/>
              </a:rPr>
              <a:t>Actividades mas frecuentes realizadas en el aula con el computa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1 Gráfico" descr=""/>
          <p:cNvPicPr/>
          <p:nvPr/>
        </p:nvPicPr>
        <p:blipFill>
          <a:blip r:embed="rId1"/>
          <a:stretch/>
        </p:blipFill>
        <p:spPr>
          <a:xfrm>
            <a:off x="208080" y="2341440"/>
            <a:ext cx="83995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2 CuadroTexto"/>
          <p:cNvSpPr/>
          <p:nvPr/>
        </p:nvSpPr>
        <p:spPr>
          <a:xfrm>
            <a:off x="395280" y="1916280"/>
            <a:ext cx="8034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modifican los tiempos de plane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 la relación de comunicación docente - estudi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 estudiantes se fortalece el trabajo cooperativo o colaborat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curso fortalece la práctica docente al brindar más opciones didáctic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en evaluación: se utiliza el computador y otros elementos como recursos, se tienen en cuenta aspectos como la creatividad del estudian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3 CuadroTexto"/>
          <p:cNvSpPr/>
          <p:nvPr/>
        </p:nvSpPr>
        <p:spPr>
          <a:xfrm>
            <a:off x="250920" y="1052640"/>
            <a:ext cx="856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바탕"/>
              </a:rPr>
              <a:t>Cambios en la práctica doce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2 Gráfico" descr=""/>
          <p:cNvPicPr/>
          <p:nvPr/>
        </p:nvPicPr>
        <p:blipFill>
          <a:blip r:embed="rId1"/>
          <a:stretch/>
        </p:blipFill>
        <p:spPr>
          <a:xfrm>
            <a:off x="244440" y="1481040"/>
            <a:ext cx="8375760" cy="5267520"/>
          </a:xfrm>
          <a:prstGeom prst="rect">
            <a:avLst/>
          </a:prstGeom>
          <a:ln w="0">
            <a:noFill/>
          </a:ln>
        </p:spPr>
      </p:pic>
      <p:sp>
        <p:nvSpPr>
          <p:cNvPr id="393" name="3 CuadroTexto"/>
          <p:cNvSpPr/>
          <p:nvPr/>
        </p:nvSpPr>
        <p:spPr>
          <a:xfrm>
            <a:off x="250920" y="1052640"/>
            <a:ext cx="856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바탕"/>
              </a:rPr>
              <a:t>Apoyo de instanc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1 Título"/>
          <p:cNvSpPr/>
          <p:nvPr/>
        </p:nvSpPr>
        <p:spPr>
          <a:xfrm>
            <a:off x="0" y="142920"/>
            <a:ext cx="8429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d1d1d"/>
                </a:solidFill>
                <a:latin typeface="Arial"/>
              </a:rPr>
              <a:t>UNO A UNO</a:t>
            </a:r>
            <a:br>
              <a:rPr sz="2400"/>
            </a:br>
            <a:r>
              <a:rPr b="1" lang="es-CO" sz="2400" spc="-1" strike="noStrike">
                <a:solidFill>
                  <a:srgbClr val="10253f"/>
                </a:solidFill>
                <a:latin typeface="Calibri"/>
              </a:rPr>
              <a:t> RIESG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2 CuadroTexto"/>
          <p:cNvSpPr/>
          <p:nvPr/>
        </p:nvSpPr>
        <p:spPr>
          <a:xfrm>
            <a:off x="0" y="1268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Riesgos en el desarrollo del proyec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1 Gráfico" descr=""/>
          <p:cNvPicPr/>
          <p:nvPr/>
        </p:nvPicPr>
        <p:blipFill>
          <a:blip r:embed="rId1"/>
          <a:stretch/>
        </p:blipFill>
        <p:spPr>
          <a:xfrm>
            <a:off x="244440" y="2560680"/>
            <a:ext cx="850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1 Gráfico" descr=""/>
          <p:cNvPicPr/>
          <p:nvPr/>
        </p:nvPicPr>
        <p:blipFill>
          <a:blip r:embed="rId1"/>
          <a:stretch/>
        </p:blipFill>
        <p:spPr>
          <a:xfrm>
            <a:off x="334800" y="1547640"/>
            <a:ext cx="8474400" cy="4797720"/>
          </a:xfrm>
          <a:prstGeom prst="rect">
            <a:avLst/>
          </a:prstGeom>
          <a:ln w="0">
            <a:noFill/>
          </a:ln>
        </p:spPr>
      </p:pic>
      <p:sp>
        <p:nvSpPr>
          <p:cNvPr id="398" name="4 CuadroTexto"/>
          <p:cNvSpPr/>
          <p:nvPr/>
        </p:nvSpPr>
        <p:spPr>
          <a:xfrm>
            <a:off x="1000080" y="1000080"/>
            <a:ext cx="7086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바탕"/>
              </a:rPr>
              <a:t>Acciones futur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50560" y="206064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ción de las experiencias con el P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Coherencia en la relación del modelo pedagógico y los elementos que fundamentan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 de propósitos o metas del trabajo en el aula claros y acordes en función de la formación de los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Planeación previa de las actividades que se realizan en el aula con el comput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Uso de recursos como ejercitadores y simuladores, orientación en la búsqueda efectiva de información y organización del trabajo en equip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Uso planeado del equipo durante la jornada escol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Ajustes curricu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metodológicos en las prácticas evaluativ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4 CuadroTexto"/>
          <p:cNvSpPr/>
          <p:nvPr/>
        </p:nvSpPr>
        <p:spPr>
          <a:xfrm>
            <a:off x="324000" y="1268280"/>
            <a:ext cx="7086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바탕"/>
              </a:rPr>
              <a:t>Recomendaciones: Gestión acadé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007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b3b3b"/>
                </a:solidFill>
                <a:latin typeface="Arial"/>
                <a:ea typeface="Arial"/>
              </a:rPr>
              <a:t>Recomendaciones: </a:t>
            </a:r>
            <a:r>
              <a:rPr b="1" lang="es-CO" sz="2400" spc="-1" strike="noStrike">
                <a:solidFill>
                  <a:srgbClr val="3b3b3b"/>
                </a:solidFill>
                <a:latin typeface="Arial"/>
                <a:ea typeface="Arial"/>
              </a:rPr>
              <a:t>Gestión Directiva</a:t>
            </a: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50560" y="206064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Definir y socializar los objetivos del proyecto con la comunidad educ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Definir los recursos humanos y financieros que permitan la sostenibilidad de los mis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Generar estrategias que permitan lograr el apoyo de instancias institucionales, locales, regionales y 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Contar con mecanismos de sistematización y socializ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Disponer de estrategias de autoevaluación de la expe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ido</a:t>
            </a:r>
            <a:br>
              <a:rPr sz="2400"/>
            </a:b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31" name="4 Marcador de contenido"/>
          <p:cNvSpPr/>
          <p:nvPr/>
        </p:nvSpPr>
        <p:spPr>
          <a:xfrm>
            <a:off x="611280" y="2276640"/>
            <a:ext cx="7632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fasis de la política educati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stema nacional de innovación educativa con uso de 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tión de modelos de innov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imiento a experiencias uno a uno en Colomb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1 Título"/>
          <p:cNvSpPr/>
          <p:nvPr/>
        </p:nvSpPr>
        <p:spPr>
          <a:xfrm>
            <a:off x="0" y="142920"/>
            <a:ext cx="8429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d1d1d"/>
                </a:solidFill>
                <a:latin typeface="Arial"/>
              </a:rPr>
              <a:t>UNO A UNO</a:t>
            </a:r>
            <a:br>
              <a:rPr sz="2400"/>
            </a:br>
            <a:r>
              <a:rPr b="1" lang="es-CO" sz="2400" spc="-1" strike="noStrike">
                <a:solidFill>
                  <a:srgbClr val="10253f"/>
                </a:solidFill>
                <a:latin typeface="Calibri"/>
              </a:rPr>
              <a:t> RECOMENDACI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 Rectángulo"/>
          <p:cNvSpPr/>
          <p:nvPr/>
        </p:nvSpPr>
        <p:spPr>
          <a:xfrm>
            <a:off x="285840" y="1000080"/>
            <a:ext cx="807228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Recomendaciones: Gestión administrati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trategia de almacenamiento para el  uso y manejo de los equip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trategia para el registro y control de los equip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rrecta adecuación del mobiliario y de la infraestructura en el au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50720" indent="-450720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tión comunita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50720" indent="-45072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os participativos para fortalecimiento de la experienc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AutoShape 4"/>
          <p:cNvGrpSpPr/>
          <p:nvPr/>
        </p:nvGrpSpPr>
        <p:grpSpPr>
          <a:xfrm>
            <a:off x="1054080" y="2457360"/>
            <a:ext cx="7315200" cy="1346400"/>
            <a:chOff x="1054080" y="2457360"/>
            <a:chExt cx="7315200" cy="1346400"/>
          </a:xfrm>
        </p:grpSpPr>
        <p:pic>
          <p:nvPicPr>
            <p:cNvPr id="406" name="AutoShape 4" descr=""/>
            <p:cNvPicPr/>
            <p:nvPr/>
          </p:nvPicPr>
          <p:blipFill>
            <a:blip r:embed="rId1"/>
            <a:stretch/>
          </p:blipFill>
          <p:spPr>
            <a:xfrm>
              <a:off x="1054080" y="2457360"/>
              <a:ext cx="73152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74680" y="2552760"/>
              <a:ext cx="70819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yecto piloto en 4 Escuelas Norma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14 Grupo"/>
          <p:cNvGrpSpPr/>
          <p:nvPr/>
        </p:nvGrpSpPr>
        <p:grpSpPr>
          <a:xfrm>
            <a:off x="1332000" y="5137200"/>
            <a:ext cx="6781680" cy="1676520"/>
            <a:chOff x="1332000" y="5137200"/>
            <a:chExt cx="6781680" cy="1676520"/>
          </a:xfrm>
        </p:grpSpPr>
        <p:pic>
          <p:nvPicPr>
            <p:cNvPr id="409" name="7 Imagen" descr="DSCN9008.JPG"/>
            <p:cNvPicPr/>
            <p:nvPr/>
          </p:nvPicPr>
          <p:blipFill>
            <a:blip r:embed="rId2"/>
            <a:stretch/>
          </p:blipFill>
          <p:spPr>
            <a:xfrm>
              <a:off x="1332000" y="5158440"/>
              <a:ext cx="2168280" cy="165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36" descr="PIC_0206"/>
            <p:cNvPicPr/>
            <p:nvPr/>
          </p:nvPicPr>
          <p:blipFill>
            <a:blip r:embed="rId3"/>
            <a:stretch/>
          </p:blipFill>
          <p:spPr>
            <a:xfrm>
              <a:off x="3341160" y="5137200"/>
              <a:ext cx="24980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9 Imagen" descr="DSCN9026.JPG"/>
            <p:cNvPicPr/>
            <p:nvPr/>
          </p:nvPicPr>
          <p:blipFill>
            <a:blip r:embed="rId4"/>
            <a:stretch/>
          </p:blipFill>
          <p:spPr>
            <a:xfrm>
              <a:off x="5680440" y="5137200"/>
              <a:ext cx="243324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1 Rectángulo"/>
          <p:cNvSpPr/>
          <p:nvPr/>
        </p:nvSpPr>
        <p:spPr>
          <a:xfrm>
            <a:off x="250920" y="10954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iloto modelo uno a uno (M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16000" y="1600200"/>
          <a:ext cx="8893080" cy="3400560"/>
        </p:xfrm>
        <a:graphic>
          <a:graphicData uri="http://schemas.openxmlformats.org/drawingml/2006/table">
            <a:tbl>
              <a:tblPr/>
              <a:tblGrid>
                <a:gridCol w="1530360"/>
                <a:gridCol w="1085760"/>
                <a:gridCol w="1442880"/>
                <a:gridCol w="1370160"/>
                <a:gridCol w="1289160"/>
                <a:gridCol w="1087200"/>
                <a:gridCol w="10875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to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nicipi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versidad acompañan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 de Investig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1224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blación beneficiad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ud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ent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 María Inmaculad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s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ur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 de la Guaji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tiv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 María Auxiliado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gdalen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ta Mart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 Del Magdalen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NF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 Nuestra Señora de Fáti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lántic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banagran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 Del Nor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ática Educati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 Montes de Marí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ív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Juan de Nepomucen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 Tecnológica de Bolív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ITA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7 CuadroTexto"/>
          <p:cNvSpPr/>
          <p:nvPr/>
        </p:nvSpPr>
        <p:spPr>
          <a:xfrm>
            <a:off x="250920" y="46530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adres de familia: 200 aprox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Rectángulo redondeado"/>
          <p:cNvSpPr/>
          <p:nvPr/>
        </p:nvSpPr>
        <p:spPr>
          <a:xfrm>
            <a:off x="108000" y="3008160"/>
            <a:ext cx="1655640" cy="1573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Brindar educación inicial de calidad en el marco de una atención integral: Primera infancia</a:t>
            </a:r>
            <a:r>
              <a:rPr b="1" lang="es-ES" sz="1400" spc="-1" strike="noStrike">
                <a:solidFill>
                  <a:srgbClr val="ccaf0a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2 Rectángulo redondeado"/>
          <p:cNvSpPr/>
          <p:nvPr/>
        </p:nvSpPr>
        <p:spPr>
          <a:xfrm>
            <a:off x="108000" y="1844640"/>
            <a:ext cx="8891640" cy="10080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Énfasis de la política educati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4 Rectángulo redondeado"/>
          <p:cNvSpPr/>
          <p:nvPr/>
        </p:nvSpPr>
        <p:spPr>
          <a:xfrm>
            <a:off x="1871640" y="2997360"/>
            <a:ext cx="1692360" cy="158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Mejorar la calidad de la educación en todos los nivel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4 Rectángulo redondeado"/>
          <p:cNvSpPr/>
          <p:nvPr/>
        </p:nvSpPr>
        <p:spPr>
          <a:xfrm>
            <a:off x="3708360" y="2997360"/>
            <a:ext cx="1690560" cy="158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Disminuir las brechas en acceso y permanencia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rural – urbana, poblaciones y regione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4 Rectángulo redondeado"/>
          <p:cNvSpPr/>
          <p:nvPr/>
        </p:nvSpPr>
        <p:spPr>
          <a:xfrm>
            <a:off x="5508720" y="2997360"/>
            <a:ext cx="1690560" cy="158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Educar con pertinencia e incorporar innovación en la educació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4 Rectángulo redondeado"/>
          <p:cNvSpPr/>
          <p:nvPr/>
        </p:nvSpPr>
        <p:spPr>
          <a:xfrm>
            <a:off x="7308720" y="2997360"/>
            <a:ext cx="1690920" cy="158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Fortalecer la gestión del sector educativo para ser modelo de eficiencia y transparenci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3 Diagrama" descr=""/>
          <p:cNvPicPr/>
          <p:nvPr/>
        </p:nvPicPr>
        <p:blipFill>
          <a:blip r:embed="rId1"/>
          <a:stretch/>
        </p:blipFill>
        <p:spPr>
          <a:xfrm>
            <a:off x="262080" y="1359000"/>
            <a:ext cx="85770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3 Diagrama" descr=""/>
          <p:cNvPicPr/>
          <p:nvPr/>
        </p:nvPicPr>
        <p:blipFill>
          <a:blip r:embed="rId1"/>
          <a:stretch/>
        </p:blipFill>
        <p:spPr>
          <a:xfrm>
            <a:off x="262080" y="1390680"/>
            <a:ext cx="8577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113508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Nacional de </a:t>
            </a:r>
            <a:r>
              <a:rPr b="1" lang="es-ES" sz="2400" spc="-1" strike="noStrike">
                <a:solidFill>
                  <a:srgbClr val="3b3b3b"/>
                </a:solidFill>
                <a:latin typeface="Arial"/>
                <a:ea typeface="Times New Roman"/>
              </a:rPr>
              <a:t>Innovación Educativa con Uso de TIC</a:t>
            </a:r>
            <a:br>
              <a:rPr sz="2400"/>
            </a:b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341" name="5 Diagrama" descr=""/>
          <p:cNvPicPr/>
          <p:nvPr/>
        </p:nvPicPr>
        <p:blipFill>
          <a:blip r:embed="rId1"/>
          <a:stretch/>
        </p:blipFill>
        <p:spPr>
          <a:xfrm>
            <a:off x="244440" y="1925640"/>
            <a:ext cx="85708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Nacional de </a:t>
            </a:r>
            <a:r>
              <a:rPr b="1" lang="es-ES" sz="2400" spc="-1" strike="noStrike">
                <a:solidFill>
                  <a:srgbClr val="3b3b3b"/>
                </a:solidFill>
                <a:latin typeface="Arial"/>
                <a:ea typeface="Times New Roman"/>
              </a:rPr>
              <a:t>Innovación Educativa con Uso de TIC</a:t>
            </a:r>
            <a:br>
              <a:rPr sz="2400"/>
            </a:b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43" name="4 Marcador de contenido"/>
          <p:cNvSpPr/>
          <p:nvPr/>
        </p:nvSpPr>
        <p:spPr>
          <a:xfrm>
            <a:off x="611280" y="2276640"/>
            <a:ext cx="7632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tivo: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jorar la capacidad de los establecimientos educativos y las entidades prestadoras del servicio educativo para innovar en sus prácticas educativas y responder a las necesidades locales, regionales y naciona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ca fortalecer las alianzas que desde el MEN se han promovido con otros Ministerios, Establecimientos Educativos, Secretarías de Educación, Instituciones de Educación Superior y entidades del sector privado, para construir una cultura que priorice la investigación y la generación de conocimiento para orientar y potenciar los procesos pedagógicos con uso de TI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s para la consolidación del sistema nacional de i</a:t>
            </a:r>
            <a:r>
              <a:rPr b="1" lang="es-ES" sz="1800" spc="-1" strike="noStrike">
                <a:solidFill>
                  <a:srgbClr val="3b3b3b"/>
                </a:solidFill>
                <a:latin typeface="Arial"/>
                <a:ea typeface="Times New Roman"/>
              </a:rPr>
              <a:t>nnovación educativa con uso de TIC</a:t>
            </a:r>
            <a:br>
              <a:rPr sz="1800"/>
            </a:b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345" name="4 Diagrama" descr=""/>
          <p:cNvPicPr/>
          <p:nvPr/>
        </p:nvPicPr>
        <p:blipFill>
          <a:blip r:embed="rId1"/>
          <a:stretch/>
        </p:blipFill>
        <p:spPr>
          <a:xfrm>
            <a:off x="231840" y="1908000"/>
            <a:ext cx="846144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3:49:45Z</dcterms:created>
  <dc:creator>EMAC</dc:creator>
  <dc:description/>
  <dc:language>en-US</dc:language>
  <cp:lastModifiedBy>Lenovo User</cp:lastModifiedBy>
  <dcterms:modified xsi:type="dcterms:W3CDTF">2011-05-03T13:01:13Z</dcterms:modified>
  <cp:revision>208</cp:revision>
  <dc:subject/>
  <dc:title>Presentaciones MEN 2010 - 20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o</vt:lpwstr>
  </property>
</Properties>
</file>